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599889"/>
        <c:axId val="53150517"/>
      </c:barChart>
      <c:catAx>
        <c:axId val="9259988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150517"/>
        <c:crosses val="autoZero"/>
        <c:auto val="1"/>
        <c:lblAlgn val="ctr"/>
        <c:lblOffset val="100"/>
        <c:noMultiLvlLbl val="0"/>
      </c:catAx>
      <c:valAx>
        <c:axId val="531505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59988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C6E86-5844-419B-95EA-D45B041F59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C0748-81DC-4D7E-B138-D04BF11B07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FC3DC-6528-4CE4-A73F-5642F23D1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B1BB2-2316-45F5-9400-8C7E6828B5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6BCD4-093F-4140-8F26-91F55061AA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D6621-09C5-4FE6-A5D6-923B04C46F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C607B-2F96-4EEB-A8BA-353B959B7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CB93-AB88-41B2-A399-3AD2472C1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C2A82-98B7-4F3C-8E07-943D72A361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B185C-897B-4D0F-82CD-531506710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3F798-3E35-4FB9-A65C-5C20F8CE9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D593-7D5A-4136-B0BD-5C3AF0D6D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8B8B33A-DD3E-446F-9455-55C0799A6A7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