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  <Override PartName="/ppt/comments/comment1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Michael McCandless" initials="MM" lastIdx="1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<Relationship Id="rId5" Type="http://schemas.openxmlformats.org/officeDocument/2006/relationships/commentAuthors" Target="commentAuthors.xml"/>
</Relationships>
</file>

<file path=ppt/comments/comment1.xml><?xml version="1.0" encoding="utf-8"?>
<p:cmLst xmlns:p="http://schemas.openxmlformats.org/presentationml/2006/main">
  <p:cm authorId="0" dt="2011-09-17T08:45:16.522000000" idx="1">
    <p:pos x="4273" y="1589"/>
    <p:text>Here is a comment</p:text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AF61-B467-46BC-8968-46CB1E411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0D833-9EE0-4DCB-B725-676A87A89C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27BF-06AE-40A6-BCCA-7BF06A023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7D931-2C24-41F9-9C16-32F0F62F95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B5114-EB54-41B4-AB0A-1DF37BD88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4767F-2392-47E4-8937-57E4FBE33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5731-7E84-408C-8C75-9C2992CA6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D1ED-D39E-4F69-9451-3CD643547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E746-E8C5-4B28-91F2-96F17ECA25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7F5B2-FE30-45E4-A064-79CFC5FC4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4E2D6-A833-4303-A934-AA53AD33A7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22EB7-CB1F-41D0-9A25-09A141F111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6743D-3CB6-4FEF-A3B9-41684EC646E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comments" Target="../comments/commen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ere is some text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17T12:44:40Z</dcterms:created>
  <dc:creator>Michael McCandless</dc:creator>
  <dc:description/>
  <dc:language>en-US</dc:language>
  <cp:lastModifiedBy>Michael McCandless</cp:lastModifiedBy>
  <dcterms:modified xsi:type="dcterms:W3CDTF">2011-09-17T12:46:22Z</dcterms:modified>
  <cp:revision>2</cp:revision>
  <dc:subject/>
  <dc:title>Here is some text </dc:title>
</cp:coreProperties>
</file>